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8996363" cy="66563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883800" y="744120"/>
            <a:ext cx="50338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20045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2A54E-3D35-4570-8E9F-2714B2734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8FB729-72B7-499F-A6AF-0A374312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84160" y="744480"/>
            <a:ext cx="503388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483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736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189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483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736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486-96CB-401E-9885-A4598888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ECC-EA7D-43E0-83A1-4A0425A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A28-2AEA-4458-AC1F-DADD9DF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90C-9A2C-46FD-B9D7-1B7B6A8E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BB1-F52C-4A5A-A2F5-5C7ABCE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18920" y="1528920"/>
            <a:ext cx="6629400" cy="21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5EC-FDBB-4C8A-B50B-C9CEFA2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C54-734A-4F66-9CF8-59ADFDF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95C-21D2-4E47-AEE7-D4B931A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A36-546C-4E2D-8A0D-EB5C97D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A59-504E-44BA-998E-62244880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805-1763-49F8-B74F-9516EAB1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483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7736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6189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483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7736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842-14E9-4C7E-9251-57990543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18920" y="1528920"/>
            <a:ext cx="6629400" cy="21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4832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7360" y="253656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189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4832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877360" y="4041000"/>
            <a:ext cx="20275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18920" y="1528920"/>
            <a:ext cx="6629400" cy="21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45960" y="404100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5960" y="2536560"/>
            <a:ext cx="307296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18920" y="4041000"/>
            <a:ext cx="629748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20045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7200" indent="-27720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271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212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1064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9280" y="266760"/>
            <a:ext cx="80992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9280" y="1552680"/>
            <a:ext cx="809928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49280" y="6060960"/>
            <a:ext cx="2100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CED-2E96-42B7-9921-E7B446E5FA3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74760" y="6060960"/>
            <a:ext cx="2847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48320" y="6060960"/>
            <a:ext cx="2100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B74-F921-409D-A864-AE920D379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20045"/>
                </a:solidFill>
                <a:latin typeface="Arial Blac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619280" y="2536920"/>
            <a:ext cx="62974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1960" indent="-291960" algn="ctr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20045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7200" indent="-27720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271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212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1064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08800" indent="-2170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182600"/>
            <a:ext cx="70722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raining and assess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8400" y="1528920"/>
            <a:ext cx="661644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How will supported employees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learn best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90560" y="2536560"/>
            <a:ext cx="629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ill want t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 why they are being trai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e the link between the training and the successful completion of their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input into what they are going to lear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8400" y="1528920"/>
            <a:ext cx="661644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How will supported employees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learn best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90560" y="2536920"/>
            <a:ext cx="62978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ill want t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ol the speed at which the new training is provi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e how the training fits with and builds on their existing skills and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 that the training is relevant to the work they are do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Learning style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ve or refle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sual or verb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ying amounts of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1042920"/>
            <a:ext cx="6629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Barriers to lear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6600"/>
            <a:ext cx="6297480" cy="36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place-rel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bility to concent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or language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in or discomf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 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vious experience with trai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040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s training always the answer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ok at the whole picture before deci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is competency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kill, knowledge, ability or behaviour that is associated with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is competency-based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s supported employees with the skills and knowledge to be able to perform their work competently, to the standard expected by the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s training usually a ‘one-off’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event or is it continuou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and business goal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ining in any organisation needs to lead to a change in outcomes – to assist the organisation meet its go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4400" y="2068560"/>
            <a:ext cx="70484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Identifying supported employees’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raining need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1182600"/>
            <a:ext cx="70722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 background to training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nd lear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y identify training need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ee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ion targe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dit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eer and personal goal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8400" y="1528920"/>
            <a:ext cx="72990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Signals that training may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be required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lity decre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ion targets not being m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ing mistak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aints from customers or staf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lict between employ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place inju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Employability skill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18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3080" y="2536560"/>
            <a:ext cx="30733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dentifying training need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ather information from a variety of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place, eg change in work proc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sonal, eg change in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ts val="31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Supervisor’s role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needs and future work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sational reasons, eg new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 reasons, eg developmental responsi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plan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to track progress toward satisfying an identified skill, knowledge or behaviour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2068560"/>
            <a:ext cx="707688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signing trai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You do not need to be an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expert to design good trai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Five steps to design trai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lnSpc>
                <a:spcPts val="33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ts val="33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ak into smaller compon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ts val="33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dentify skills, knowledge and behaviours in each compon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ts val="33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 out the sequence for trai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ts val="3399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how to apply the sequ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8920" y="1396800"/>
            <a:ext cx="66294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Role of a workplace trainer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8920" y="2823840"/>
            <a:ext cx="6513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ssist supported employees learn the skills and knowledge to do their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location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the venue to suit the learning nee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Design and delivery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ining design is the first part of the preparation for training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design hint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train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ropr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ilored to individual learning prefer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Chai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ting tasks in the right or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ign and delivery training technique used to learn a sequence or chain of behaviou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Participation need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aware of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haviou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teracy lev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meracy lev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ffects of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0000" y="2068560"/>
            <a:ext cx="70628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 Black"/>
              </a:rPr>
              <a:t>Delivering train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delivery method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30718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ur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43080" y="2536560"/>
            <a:ext cx="30733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ctures/ta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le pl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Delivering demonstration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diagram"/>
          <p:cNvPicPr/>
          <p:nvPr/>
        </p:nvPicPr>
        <p:blipFill>
          <a:blip r:embed="rId1"/>
          <a:stretch/>
        </p:blipFill>
        <p:spPr>
          <a:xfrm>
            <a:off x="1604880" y="2243160"/>
            <a:ext cx="53928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Feedback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eedback should b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nito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are training tool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ysical objects that help a supported employee learn new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a varie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it stimulates learning, use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9040" y="808200"/>
            <a:ext cx="596592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Role of the workplace trainer in Disability Employment Service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89040" y="2371680"/>
            <a:ext cx="671832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rovides support to employees to help the service mee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ategic business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12 Disability Services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Electronic training tool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65680" indent="-2656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sure they are a benefi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rn to operate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ck they are in working or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alternatives rea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84000" y="1528920"/>
            <a:ext cx="741348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and challenging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behaviour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hedule training for times when supported employees are receptive or ready to lear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 individuals or group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each training opportunity on its merits then decide if it will b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-on-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rger gro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One or more trainer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ded interest and val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ts val="31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ear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18920" y="1528560"/>
            <a:ext cx="66294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Cultural background and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training delivery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18920" y="289692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ltural background can affect training, eg language differ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wareness is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5480" y="2068560"/>
            <a:ext cx="75056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ssessment, evaluat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nd reporting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is assessment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essment measures if supported employees have the skills or knowledge required to perform their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ssessing competency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sure supported employees can perform a tas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f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the standard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eet legislative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en to asses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essment should be continuous and placed in normal day-to-day activities if possi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Recording assessment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an assessment recor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et organisation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7840" y="821880"/>
            <a:ext cx="66420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Skills and abilities of workplace trainer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60240" y="2247480"/>
            <a:ext cx="67165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pect for the lear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d communication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ject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ssessment method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assessment methods fit with normal workflow as much as possi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formance at the worksite should be the primary source of evid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Number of assessor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ends on th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 work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ts val="3197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sks being asse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re assessments like exams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essments should not be ex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assessmen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t of the daily rout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leted in comfortable and realistic workplace sett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y evaluate training?</a:t>
            </a:r>
            <a:br>
              <a:rPr sz="3000"/>
            </a:b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ensure that training returns value to the busi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18920" y="1528920"/>
            <a:ext cx="66294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does evaluation of training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nvolve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raining is evaluated from th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rticipant’s perspe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iner’s perspe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18920" y="1528560"/>
            <a:ext cx="66294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Recording training and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ssessment outcomes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18920" y="296820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rds are needed to mee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sational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place health and safe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12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ts val="3197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 ethics and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58800" y="1528560"/>
            <a:ext cx="6731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t also helps to have the ability to…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9280" y="2536560"/>
            <a:ext cx="66643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 clear instru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ak larger tasks into smaller compon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3399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monstrate tasks clear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4280" y="1528920"/>
            <a:ext cx="665964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t is essential to…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19280" y="2536560"/>
            <a:ext cx="66960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impact some disabilities can have on the supported employee’s capacity to retain skill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952200"/>
            <a:ext cx="66294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What is workplace training 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bout? 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about ensuring employees are equipped with the skills and knowledge they need to complete their work safely and to the required stand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8920" y="952200"/>
            <a:ext cx="66294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Are learning preferences </a:t>
            </a:r>
            <a:br>
              <a:rPr sz="3000"/>
            </a:br>
            <a:r>
              <a:rPr b="0" lang="en-US" sz="3000" spc="-1" strike="noStrike">
                <a:solidFill>
                  <a:srgbClr val="0099d0"/>
                </a:solidFill>
                <a:latin typeface="Arial Black"/>
              </a:rPr>
              <a:t>important?</a:t>
            </a:r>
            <a:endParaRPr b="0" lang="en-US" sz="3000" spc="-1" strike="noStrike">
              <a:solidFill>
                <a:srgbClr val="a20045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8920" y="2536560"/>
            <a:ext cx="62974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helps to have some understanding about supported employees’ learning prefer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282920" y="619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7:01:42Z</dcterms:created>
  <dc:creator>Ben Fulford</dc:creator>
  <dc:description/>
  <dc:language>en-US</dc:language>
  <cp:lastModifiedBy>lberg</cp:lastModifiedBy>
  <dcterms:modified xsi:type="dcterms:W3CDTF">2007-11-15T00:20:37Z</dcterms:modified>
  <cp:revision>182</cp:revision>
  <dc:subject/>
  <dc:title>PowerPoint Presentation</dc:title>
</cp:coreProperties>
</file>